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948-9CE9-49AF-9326-7CA2405F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E28-0C31-434D-BCCC-2A46C9E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414-722C-4637-9D54-C9707255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0A8-09E8-4985-A8DB-7412A1D6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353-F481-49F4-BC23-DF04EC3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88D-273B-4251-8008-D35389CE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73E-B7B9-4AE1-ACFE-2AA5C499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1B9-B408-4807-87B5-227A835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389-3B0C-4E0E-982E-AE8903FF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8B7-BBCB-4946-929E-36427B7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5F1-EF3C-467D-9C35-F05E037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9B4-D05C-46A3-AFA7-68576FD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BBE-2A73-442F-A1D6-F59C596F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685800"/>
            <a:ext cx="5410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rticles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of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Confederation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&amp; Plan for a New Government: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81-1789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000160" cy="19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The Articles of Confederation"/>
          <p:cNvPicPr/>
          <p:nvPr/>
        </p:nvPicPr>
        <p:blipFill>
          <a:blip r:embed="rId2"/>
          <a:stretch/>
        </p:blipFill>
        <p:spPr>
          <a:xfrm>
            <a:off x="1371600" y="685800"/>
            <a:ext cx="14018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480" y="396720"/>
            <a:ext cx="71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Times New Roman"/>
              </a:rPr>
              <a:t>The Road to Philadelph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792468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polis Convention (178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representatives from 5 stat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Y, NJ, PA, DE, V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GO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 barriers that limited trade and commerce between th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5 attended --- Call a meeting in Philadelp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ys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Shays, Western MA – shut down debtors courts and stopped property a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farmers angered by crushing debts and ta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 militia put down rebellion with help of recruits the Governor had asked to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9680" y="50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Shays’ Rebellion: 1786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90512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re could be no stronger evidence of the want of energy in our governments than these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921200"/>
            <a:ext cx="64008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2e00"/>
                </a:solidFill>
                <a:latin typeface="Hot Pizza"/>
              </a:rPr>
              <a:t>-- George</a:t>
            </a:r>
            <a:r>
              <a:rPr b="1" lang="en-US" sz="3600" spc="-1" strike="noStrike">
                <a:solidFill>
                  <a:srgbClr val="f02e00"/>
                </a:solidFill>
                <a:latin typeface="Tw Cen MT Condensed Extra Bold"/>
              </a:rPr>
              <a:t> </a:t>
            </a:r>
            <a:r>
              <a:rPr b="1" lang="en-US" sz="3600" spc="-1" strike="noStrike">
                <a:solidFill>
                  <a:srgbClr val="f02e00"/>
                </a:solidFill>
                <a:latin typeface="Times New Roman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2e00"/>
                </a:solidFill>
                <a:latin typeface="Times New Roman"/>
              </a:rPr>
              <a:t>- Raising doubts about the central gov’ts ability to deal with civil un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84280" y="217440"/>
            <a:ext cx="63993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257040"/>
            <a:ext cx="7162560" cy="675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01520"/>
            <a:ext cx="701028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9339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15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0640" y="1957320"/>
            <a:ext cx="5562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2760" y="1719360"/>
            <a:ext cx="4038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2880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Principles of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257800"/>
            <a:ext cx="66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ke sure you can define these o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0"/>
            <a:ext cx="7010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Times New Roman"/>
              </a:rPr>
              <a:t>The Articles of Confederation – our 1</a:t>
            </a:r>
            <a:r>
              <a:rPr b="1" lang="en-US" sz="3800" spc="-1" strike="noStrike" baseline="30000">
                <a:solidFill>
                  <a:srgbClr val="000096"/>
                </a:solidFill>
                <a:latin typeface="Times New Roman"/>
              </a:rPr>
              <a:t>st</a:t>
            </a:r>
            <a:r>
              <a:rPr b="1" lang="en-US" sz="3800" spc="-1" strike="noStrike">
                <a:solidFill>
                  <a:srgbClr val="000096"/>
                </a:solidFill>
                <a:latin typeface="Times New Roman"/>
              </a:rPr>
              <a:t> Constit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143000"/>
            <a:ext cx="78487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77 adopted, not ratified until 1781 (all 13 states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at was the hold up?  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cameral Congress – 9 out of 13 to pass a law, 13 out of 13 to am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tives frequently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gress could declare war, no authority to tax or raise ar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ld borrow and coin money, conduct foreign affairs, set Indian policy, settle disputes betwee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executive or judicial branches, no federal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ing rules varied from state t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5120" y="22860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Times New Roman"/>
              </a:rPr>
              <a:t>State Constitu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5084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ublicanism and Natural R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st had strong governors with veto pow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st had bicameral legislat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ome had property required for voting, while others gave universal white male suffr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omen’s roles still restricted, but new idea of Republican Motherhood and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st had bills of righ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ny had a continuation of state-established religions while others dis-established religion. </a:t>
            </a:r>
            <a:r>
              <a:rPr b="1" lang="en-US" sz="2500" spc="-1" strike="noStrike">
                <a:solidFill>
                  <a:srgbClr val="cc3300"/>
                </a:solidFill>
                <a:latin typeface="Times New Roman"/>
              </a:rPr>
              <a:t>Which state was first to forbid state established relig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isms of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vote for each state,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ress was powerless, no re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not tax, states avoided paying share of the national debt ---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not regulate foreign, interstate commerce --- Inexpensive goods from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xecutive branch to enfor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judicial branch to interpre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a “firm league of friendship,” not a unified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380880"/>
            <a:ext cx="701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Times New Roman"/>
              </a:rPr>
              <a:t>State Claims to Western La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077320" cy="5010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45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Land Ordinance of 17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876" t="0" r="4082" b="0"/>
          <a:stretch/>
        </p:blipFill>
        <p:spPr>
          <a:xfrm>
            <a:off x="380880" y="1143000"/>
            <a:ext cx="6553440" cy="4890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122480" y="613584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 regulate the distribution of wester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152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Northwest Ordinance of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733920" y="914400"/>
            <a:ext cx="2819160" cy="22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197160"/>
            <a:ext cx="853416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e of the major accomplishments of the Confederation Congres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hood achieved in three s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Congress appointed 3 judges &amp; a governor to govern the terri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hen population reached 5,000 adult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owner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ct territorial legisl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hen population reached 60,000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ct delegates  to a state constitutional co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The United States in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6400800" cy="5676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7:42Z</dcterms:created>
  <dc:creator>udsd</dc:creator>
  <dc:description/>
  <dc:language>en-US</dc:language>
  <cp:lastModifiedBy>udsd</cp:lastModifiedBy>
  <dcterms:modified xsi:type="dcterms:W3CDTF">2010-01-11T16:09:28Z</dcterms:modified>
  <cp:revision>18</cp:revision>
  <dc:subject/>
  <dc:title>Slide 1</dc:title>
</cp:coreProperties>
</file>